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 sorting cards.  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F27291-B3C7-4DDE-BF30-B3EEDF0215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20391-9F10-4FBA-954E-9FB3746BA9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7D529F-CB26-4A3A-B784-2002BF8E75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7EA9CB-FABB-4A24-95B9-836D078FF1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A0C36-3D0D-4366-ABFD-B8C52A4450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27C84-2375-475E-BE22-07754BD2C5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246C3-0594-4AA4-A4C6-38A3C12EA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DC4FD538-8521-43C9-8DD2-F636AD5A81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0B0B5EF-EE6F-4545-BBD0-F7C60CEE4A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BB8AD-42F9-4662-AE83-D64B42E4BD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D957C-4058-4E90-811C-2BE28DF889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16997-26B8-45D1-90E5-EE484DB3A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04E6-8316-4FB2-9D77-7CCA90E79CC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ABDA-6533-428E-A178-39919C1285E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uditory Wordl</a:t>
            </a:r>
            <a:endParaRPr b="0" lang="en-US" sz="44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7693-0317-4ED7-97E5-8421F7F086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1" descr=""/>
          <p:cNvPicPr/>
          <p:nvPr/>
        </p:nvPicPr>
        <p:blipFill>
          <a:blip r:embed="rId1"/>
          <a:stretch/>
        </p:blipFill>
        <p:spPr>
          <a:xfrm>
            <a:off x="0" y="5356080"/>
            <a:ext cx="9144000" cy="1517760"/>
          </a:xfrm>
          <a:prstGeom prst="rect">
            <a:avLst/>
          </a:prstGeom>
          <a:ln w="0">
            <a:noFill/>
          </a:ln>
        </p:spPr>
      </p:pic>
      <p:sp>
        <p:nvSpPr>
          <p:cNvPr id="5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D2B7-0BF3-43F7-A15B-E3D31F84D9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4" name="Content Placeholder 6" descr=""/>
          <p:cNvPicPr/>
          <p:nvPr/>
        </p:nvPicPr>
        <p:blipFill>
          <a:blip r:embed="rId2"/>
          <a:stretch/>
        </p:blipFill>
        <p:spPr>
          <a:xfrm>
            <a:off x="0" y="1143000"/>
            <a:ext cx="9144000" cy="449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5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ig Ideas and Questioning – Proportional Reasoning K – 12</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osing the Gap</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F616-7375-4B16-B0A2-65697115D88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5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2813-3C7F-439E-A6C7-92EB184C4C5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07C7-2B00-47D1-9032-C57FB3D4CA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6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D189-E23C-493B-859D-83587E1FF38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03T19:04:12Z</dcterms:modified>
  <cp:revision>7</cp:revision>
  <dc:subject/>
  <dc:title>&lt;Title&gt;</dc:title>
</cp:coreProperties>
</file>